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810-EC25-40FC-83FF-2D479E86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C7A-1B29-40AC-858B-7D564CEF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7D7-55AC-4040-8AF0-A1F8CF6F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CF5-11A5-4DC0-8BE7-6E649364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AA6-EF39-4356-B82B-32F5681A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A9A-0A0C-4C3B-A006-8D9DE12C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604-F361-4F48-90AF-5201681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8F7-9C55-45A6-B4FB-477680C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C08-48D1-4162-B638-CF94209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635-8751-4EFB-ACBC-B7BD468E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626-05C2-4110-83A7-44DFF317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C7D-9883-4395-95DB-D8C2049E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6C3-BD50-485B-8D1D-0112BA82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kazakhstan.orexca.com/kazakhstan_culture6.shtml" TargetMode="External"/><Relationship Id="rId3" Type="http://schemas.openxmlformats.org/officeDocument/2006/relationships/hyperlink" Target="http://www.kazakhstan.orexca.com/kazakhstan_history.shtml" TargetMode="External"/><Relationship Id="rId4" Type="http://schemas.openxmlformats.org/officeDocument/2006/relationships/hyperlink" Target="https://www.cia.gov/library/publications/the-world-factbook/geos/kz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lag of Kazakhstan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Flinchbaugh   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azakhstan.orexca.com/kazakhstan_culture6.s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2/23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azakhstan.orexca.com/kazakhstan_history.s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2/23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cia.gov/library/publications/the-world-factbook/geos/kz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2/18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west of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 00 N     68 00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4 times the size of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ga and Altai mou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8 percent 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e to earthqu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 and semi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Nursultan A. Nazarbay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 Karim Masi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-Asta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expectancy-67.5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-15,340,5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 from the Soviet Union December 16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nstitution January 28,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zakhstan will now allow the US to ship non military goods through their country to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.5 percent literac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 force 8.358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t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.25 tenge for a US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electricity, oil, and 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, russian orthodox, protestant,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 Russian and Kaza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ouse called Y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kazy, koten, and z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en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ai Mountain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sites the great sil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54Z</dcterms:created>
  <dc:creator>nicholasfflinchbaugh</dc:creator>
  <dc:description/>
  <dc:language>en-US</dc:language>
  <cp:lastModifiedBy>McFaddeR</cp:lastModifiedBy>
  <dcterms:modified xsi:type="dcterms:W3CDTF">2009-03-06T19:43:01Z</dcterms:modified>
  <cp:revision>5</cp:revision>
  <dc:subject/>
  <dc:title>Kazakhstan</dc:title>
</cp:coreProperties>
</file>